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5CA-2678-401B-8559-B2BAB523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832-E9D7-4C03-9A6B-64AC6B8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7A2-FE9E-4497-99F7-0D65AA05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DDD-8196-4D23-AA14-073F7CFB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8BE6-20B5-4C22-AFD2-F381163C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EFBF-EBEF-4CE4-872A-2B745B5B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9714-706F-4808-B4F4-8B7CA9C6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2BB3-761E-4FC9-870C-B5FAD38C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8F20-8BE7-48B5-83A8-582C1C52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A5A5-79F0-47AD-AE6F-157A5A61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2005-BB9A-4B71-9ABF-BB1838F0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A60-1F3B-4BFC-9F5C-7BF2646F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BAD3-F9BC-4821-8742-1A101C41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35F5-824B-4BB0-91D3-EDFE09AC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B007-7A94-41A7-BE63-5047F1BC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8679-B7F5-4940-BE4D-A805038B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BF0D-4F60-4F67-B587-6A332236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BC1-8E04-4F80-8A2E-463827E5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B15-5E3C-4A6E-8CC0-39FA7DC5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BD4-7433-41ED-ADD5-42EAD88C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920-6FC6-44E4-9733-4CB9951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014-FED8-46EF-AD86-CA8A2915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15F-6EFC-4865-9B9E-CB937694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AFD-BCB5-409F-904D-3071464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7E61A-B69A-4FF2-A70C-CDD8A197B68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C5A2F-8A35-4321-A2A4-31BCBFE754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rigami-school.narod.ru/page_041.htm" TargetMode="External"/><Relationship Id="rId3" Type="http://schemas.openxmlformats.org/officeDocument/2006/relationships/hyperlink" Target="http://www.openclass.ru/lessons/210628" TargetMode="External"/><Relationship Id="rId4" Type="http://schemas.openxmlformats.org/officeDocument/2006/relationships/hyperlink" Target="http://www.proshkolu.ru/tag/47710" TargetMode="External"/><Relationship Id="rId5" Type="http://schemas.openxmlformats.org/officeDocument/2006/relationships/hyperlink" Target="http://kiryanova1977.ucoz.ru/load/vneklassnaja_dejatelnost/programma_kruzhka_khudozhestvenno_tvorcheskoj_napravlennosti_quot_korob_chudes_quot/4-1-0-7" TargetMode="External"/><Relationship Id="rId6" Type="http://schemas.openxmlformats.org/officeDocument/2006/relationships/hyperlink" Target="http://www.zankov.ru/exp/article=2206/" TargetMode="External"/><Relationship Id="rId7" Type="http://schemas.openxmlformats.org/officeDocument/2006/relationships/hyperlink" Target="http://www.studio-art.ru/book.html" TargetMode="External"/><Relationship Id="rId8" Type="http://schemas.openxmlformats.org/officeDocument/2006/relationships/hyperlink" Target="http://festival.1september.ru/articles/503938/" TargetMode="External"/><Relationship Id="rId9" Type="http://schemas.openxmlformats.org/officeDocument/2006/relationships/hyperlink" Target="http://festival.1september.ru/articles/subjects/20" TargetMode="External"/><Relationship Id="rId10" Type="http://schemas.openxmlformats.org/officeDocument/2006/relationships/hyperlink" Target="http://www.den-za-dnem.ru/page.php?article=53" TargetMode="External"/><Relationship Id="rId11" Type="http://schemas.openxmlformats.org/officeDocument/2006/relationships/hyperlink" Target="http://museum.npstoik.ru/" TargetMode="External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ocs.google.com/leaf?id=0B7lvS7DD19zFZDQwODZiMmQtN2U1NC00YWIyLTlhMzUtN2FmNjUwOTg2YTky&amp;hl=ru" TargetMode="External"/><Relationship Id="rId3" Type="http://schemas.openxmlformats.org/officeDocument/2006/relationships/hyperlink" Target="http://standart.edu.ru/catalog.aspx?CatalogId=985" TargetMode="External"/><Relationship Id="rId4" Type="http://schemas.openxmlformats.org/officeDocument/2006/relationships/hyperlink" Target="http://metodisty.ru/forum/groups/topic/festival_detskih_i_molodezhnyh_tea" TargetMode="External"/><Relationship Id="rId5" Type="http://schemas.openxmlformats.org/officeDocument/2006/relationships/hyperlink" Target="http://www.proshkolu.ru/user/eremeeva40/blog/110611" TargetMode="External"/><Relationship Id="rId6" Type="http://schemas.openxmlformats.org/officeDocument/2006/relationships/hyperlink" Target="http://stranamasterov.ru/" TargetMode="External"/><Relationship Id="rId7" Type="http://schemas.openxmlformats.org/officeDocument/2006/relationships/hyperlink" Target="http://www.elena-kuzmina.ru/31" TargetMode="External"/><Relationship Id="rId8" Type="http://schemas.openxmlformats.org/officeDocument/2006/relationships/hyperlink" Target="http://moikompas.ru/compas/origami" TargetMode="External"/><Relationship Id="rId9" Type="http://schemas.openxmlformats.org/officeDocument/2006/relationships/hyperlink" Target="http://www.origami.ru/" TargetMode="External"/><Relationship Id="rId10" Type="http://schemas.openxmlformats.org/officeDocument/2006/relationships/hyperlink" Target="http://www.origami.kulichki.ru/" TargetMode="External"/><Relationship Id="rId11" Type="http://schemas.openxmlformats.org/officeDocument/2006/relationships/hyperlink" Target="http://www.ucazka.ucoz.ru/" TargetMode="External"/><Relationship Id="rId12" Type="http://schemas.openxmlformats.org/officeDocument/2006/relationships/hyperlink" Target="http://planuroka.ru/archives/939/" TargetMode="External"/><Relationship Id="rId13" Type="http://schemas.openxmlformats.org/officeDocument/2006/relationships/hyperlink" Target="http://tapisarevskaya.rusedu.net/post/1415/15614" TargetMode="External"/><Relationship Id="rId1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441440"/>
            <a:ext cx="907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Концепция</a:t>
            </a: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 духовно - нравственного развития и воспитания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Внеурочная деятельность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4859280"/>
            <a:ext cx="90709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нтарии к разд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удожествен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мощь учите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5520" y="212760"/>
          <a:ext cx="9796680" cy="6759360"/>
        </p:xfrm>
        <a:graphic>
          <a:graphicData uri="http://schemas.openxmlformats.org/drawingml/2006/table">
            <a:tbl>
              <a:tblPr/>
              <a:tblGrid>
                <a:gridCol w="4961160"/>
                <a:gridCol w="483552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http://origami-school.narod.ru/page_041.ht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Волшебный мир оригам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  <a:tr h="87912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www.openclass.ru/lessons/2106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по рисованию "Акварель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 Чегаева Светлана Ивановна (требуется регистра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94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www.proshkolu.ru/tag/477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: кружка по ИЗО для 1- 4 кл, кружка "Эскиз", кружка компьютерной граф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kiryanova1977.ucoz.ru/load/vneklassnaja_dejatelnost/programma_kruzhka_khudozhestvenno_tvorcheskoj_napravlennosti_quot_korob_chudes_quot/4-1-0-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художественно-творческой направленности "Короб чудес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0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www.zankov.ru/exp/article=2206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внеурочной деятельности «Школьная сказ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/>
                        </a:rPr>
                        <a:t>http://www.studio-art.ru/book.html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секретов оформления воздушными ша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/>
                        </a:rPr>
                        <a:t>http://festival.1september.ru/articles/503938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ценарий демонстрации моделей школьного дефи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794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/>
                        </a:rPr>
                        <a:t>http://festival.1september.ru/articles/subjects/20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исок статей фестиваля педагогических идей "Открытый урок" на тему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876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/>
                        </a:rPr>
                        <a:t>http://www.den-za-dnem.ru/page.php?article=53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я Ю.Б. Яхно «Школьный музей, как составляющая открытого образовательного пространств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http://museum.npstoik.ru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ал "Школа. Музей. Интернет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лагодарим за вним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надеемся наша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удет вам полез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47280" y="1153800"/>
            <a:ext cx="9070920" cy="58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гина Ири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Са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гузова Августина Анатольевна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Нижегород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маз Исраиль гызы Хас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Баку, Азербайдж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ынцева Юлия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мар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това Еле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ркина Юлия Юрь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урман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ллективная работ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452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ые названия   факультативных курсов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546200"/>
            <a:ext cx="90709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    Театр нашего класса (Классный теат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  Кружок декоративно прикладного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Танцевальный 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Музыкальная копи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  Компьютерный дизайн ремесленных навыков "Мастер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  Город мас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   Наша фант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    Очень умелые ру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     Театральный фестиваль "Театрали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очный зал"Трудовичек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Ритмика и танец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  Ори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еса апп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красоты и грации  "Жемчужи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б чуд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 изосту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юных модельеров "Намоднени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ая группа для создания дизайна и ведения сайта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ей "Жизнь, традиции и искусство малых народов кра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7840" y="2962440"/>
          <a:ext cx="9691560" cy="4340160"/>
        </p:xfrm>
        <a:graphic>
          <a:graphicData uri="http://schemas.openxmlformats.org/drawingml/2006/table">
            <a:tbl>
              <a:tblPr/>
              <a:tblGrid>
                <a:gridCol w="4640400"/>
                <a:gridCol w="5051160"/>
              </a:tblGrid>
              <a:tr h="6588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80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музея декоративно -прикладного творчест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ство с видами искус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384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работ из овощей и фруктов  и цветов «Осенний букет» (школьный праздник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оциальных знаний. развитие ценностных отношений в родной природе,к культурному наследию своего Участие в районном конкурсе декоративно-прикладного творчества края,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8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йонном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899640"/>
            <a:ext cx="92520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азвитие стремления к творческой самореализации средствами художественной деятельности, саморазвитие и развитие личности каждого ребёнка в процессе освоения мира через его собственную творческую предметну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79280"/>
          <a:ext cx="9813960" cy="7240320"/>
        </p:xfrm>
        <a:graphic>
          <a:graphicData uri="http://schemas.openxmlformats.org/drawingml/2006/table">
            <a:tbl>
              <a:tblPr/>
              <a:tblGrid>
                <a:gridCol w="4838760"/>
                <a:gridCol w="4975200"/>
              </a:tblGrid>
              <a:tr h="50328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93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урсия на предприятие (Городецкая роспись, строчевышевальная фабрика и т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9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визитных карточек "Промыслы нашего кра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248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туальная экскурсия "Город мастеров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2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веток, корней необычной формы, семян и др. природных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193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кукол из папье-маше для кукольного теа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5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-декорация «Сказочный домик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интернет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179280"/>
          <a:ext cx="9720360" cy="707040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47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в технике изонить "Волшебная ниточ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48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из готовых форм "Мастерил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Праздник русской матрёшки."(Знакомство с видами росписи матрёшки: хохлома, полхов- майдан, загорская, семёновская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8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семейных коллективных творческих работ "Мы вместе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8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мастер-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дошкольников по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79280"/>
          <a:ext cx="9720360" cy="717516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66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театрализованного представления о ремёслах нашего края, показ спектакля в детском саду или детском д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3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творительная выставка поделок, выполненных в освоенной технике ремесл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032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подарков в стиле прикладных ремёсел для детей из детского дома "Открой своё сердц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детского дома, организация совместных социальных действий - этнографических  экскурсий, туристических походов по историческим мес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1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проект "Протяни руку другу" (передача полученного опыта другим людя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79280"/>
          <a:ext cx="9720360" cy="491472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5526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90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 - создание коллекции по теме (в теме можно отразить любое из направлений воспитательной деятельности, н-р "Костюм времени года", "Современный национальный костюм"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894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и "Малые народы. (например саамы, поморы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адиции и искус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28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сурсы в интернете, для составления программы внеурочной деятельности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2680" y="1649520"/>
          <a:ext cx="9980640" cy="5801760"/>
        </p:xfrm>
        <a:graphic>
          <a:graphicData uri="http://schemas.openxmlformats.org/drawingml/2006/table">
            <a:tbl>
              <a:tblPr/>
              <a:tblGrid>
                <a:gridCol w="3059280"/>
                <a:gridCol w="692136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исание рес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0004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https://docs.google.com/leaf?id=0B7lvS7DD19zFZDQwODZiMmQtN2U1NC00YWIyLTlhMzUtN2FmNjUwOTg2YTky&amp;hl=ru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ческий конструктор по внеуроч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13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standart.edu.ru/catalog.aspx?CatalogId=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духовно-нравственного развития и воспитания личности гражданина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metodisty.ru/forum/groups/topic/festival_detskih_i_molodezhnyh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стиваль детских и молодёжных спектак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488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www.proshkolu.ru/user/eremeeva40/blog/1106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ая программа по внеурочной деятельности по духовно-нравственному направлению Клуб "Растим патриотов России" Автор-составитель: Т.А. Еремеева учитель начальных 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stranamasterov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«Художественное творчество» Автор: Проснякова Т.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338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7"/>
                        </a:rPr>
                        <a:t>www.elena-kuzmina.ru/31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8"/>
                        </a:rPr>
                        <a:t>http://moikompas.ru/compas/origami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9"/>
                        </a:rPr>
                        <a:t>www.origam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10"/>
                        </a:rPr>
                        <a:t>www.origami.kulichk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работы кружка "Театр-творчество-дети"-108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ылки на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556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www.ucazka.ucoz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/>
                        </a:rPr>
                        <a:t>http://planuroka.ru/archives/939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/>
                        </a:rPr>
                        <a:t>http://tapisarevskaya.rusedu.net/post/1415/156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театрального кружка "Мир фантазий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Умелые рук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«Бумажные и пластилиновые фантаз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0:11:00Z</dcterms:created>
  <dc:creator>ansi </dc:creator>
  <dc:description/>
  <dc:language>en-US</dc:language>
  <cp:lastModifiedBy>ansi </cp:lastModifiedBy>
  <dcterms:modified xsi:type="dcterms:W3CDTF">2011-08-09T14:56:00Z</dcterms:modified>
  <cp:revision>1</cp:revision>
  <dc:subject/>
  <dc:title/>
</cp:coreProperties>
</file>